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728-E864-44E8-968E-E51B23D0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FC8-D13A-4739-AE73-AAEC168E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863-8135-4BDD-BE5D-9568083C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B74-30C3-4B91-BCE2-B44692A7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563B-4AC2-405C-A489-5A0A9161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D89E-D5E0-448E-BD1B-80F6DCE2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4360-A1E6-4CCF-8B08-E51DB2F0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D586-5450-4727-A282-807BBDDB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DBCB-4282-4A98-897E-72667C70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59AC-6FE2-4D0D-953A-B1A2001C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D33E-7E07-4B51-A848-A29F1CA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53C-1D3D-4402-8727-C24F2AE0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6BCD-0F49-4E57-902E-D0757B5D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38E2-7E78-4B50-863F-7F2D8116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4620-286C-4AF1-AFE0-1BEB5EE0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B31C-6955-4580-A192-64A40AD6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5C35-779A-40A4-9F25-E9BCB408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DFD-DC61-4A09-B52C-D4171CA4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802-1D0A-41A5-9CE0-FA97F480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4FD-CD90-4D2B-8A33-D8886FCF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796-D27A-4C97-8E3C-83BC66B1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9BA-2C8D-41C3-9455-0E2C4AA7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4F1-07EC-4AA4-B4A9-294BD5D8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AE1-10E9-499B-BE69-B5D44E59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8E65-84CE-4236-9C5D-3EA23FA42DBA}" type="slidenum"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FE39-43AF-4B47-A981-455BE45AA1A3}" type="slidenum"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a nariz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huelo con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a nariz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huelo con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huelo yo huelo yo huelo huelo huel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Huele bien huele mal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El cochino huele mal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a nariz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huelo con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077320" y="3352680"/>
            <a:ext cx="52848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143676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554960" y="4572000"/>
            <a:ext cx="158904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80880" y="472428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7620120" y="1219320"/>
            <a:ext cx="1268280" cy="127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457200" y="533520"/>
            <a:ext cx="1268280" cy="127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57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jos,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veo con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jos,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veo con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veo yo veo yo veo veo ve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Azul, y rojo, verde, amarill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jos, los ojos yo veo con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692000" cy="1128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2120" y="6095880"/>
            <a:ext cx="1616040" cy="1078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527960" y="6318360"/>
            <a:ext cx="1616040" cy="1077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28600" y="2286000"/>
            <a:ext cx="1616040" cy="1077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3429000" y="0"/>
            <a:ext cx="1539720" cy="1027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7010280" y="2743200"/>
            <a:ext cx="1616040" cy="1077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80880" y="228600"/>
            <a:ext cx="131148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57840" y="-5393880"/>
            <a:ext cx="304920" cy="121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56000"/>
          </a:bodyPr>
          <a:p>
            <a:pPr marL="191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ídos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escucho con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ídos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escucho con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escucho, yo escucho, escucho, escucho escuch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no hablo yo escuch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escucho a mi amig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ídos los oídos yo escucho con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920880" cy="141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305920" y="4876920"/>
            <a:ext cx="622080" cy="95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771480" cy="118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8323200" y="2209680"/>
            <a:ext cx="820800" cy="125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7543800" y="0"/>
            <a:ext cx="870120" cy="1335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0" y="457200"/>
            <a:ext cx="820800" cy="125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33520" y="5562720"/>
            <a:ext cx="6951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162920" y="1600200"/>
            <a:ext cx="169200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451640" y="4952880"/>
            <a:ext cx="169236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Las manos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Yo toco con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Las manos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Yo toco con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Yo toco yo toco yo toco toco toco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ave, áspero, blando y duro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Las manos las manos yo toco con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12120" y="0"/>
            <a:ext cx="1631880" cy="132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1387440" cy="112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53080" y="56386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740720" y="2209680"/>
            <a:ext cx="1403280" cy="1140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3581280" y="5854680"/>
            <a:ext cx="1235160" cy="1003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0" y="2438280"/>
            <a:ext cx="1327320" cy="1078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457200" y="533520"/>
            <a:ext cx="1600200" cy="12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boca la boca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Yo como con la boca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boca la boca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Yo como con la boca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Yo como yo como yo como como como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fruta es dulce, el Cheeto es salado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boca la boca yo como con la bo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38880" y="2590920"/>
            <a:ext cx="1441440" cy="126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2666880"/>
            <a:ext cx="1444680" cy="1266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981080" y="0"/>
            <a:ext cx="1673280" cy="1467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086600" y="609480"/>
            <a:ext cx="1136520" cy="99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04920" y="533520"/>
            <a:ext cx="1368360" cy="1199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33520" y="5257800"/>
            <a:ext cx="758880" cy="66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8077320" y="5181480"/>
            <a:ext cx="758880" cy="6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tem User</cp:lastModifiedBy>
  <dcterms:modified xsi:type="dcterms:W3CDTF">2011-08-12T23:13:10Z</dcterms:modified>
  <cp:revision>7</cp:revision>
  <dc:subject/>
  <dc:title>PowerPoint Presentation</dc:title>
</cp:coreProperties>
</file>